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B081-2140-4C2B-90B5-8BAE9E436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256D-96E1-41DB-B2ED-BF6A5983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9A5-BAF5-4FC2-8D47-6BA4581CC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2D7-CAA1-4647-A0FD-1B16CD729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20E4-29E0-4424-9342-A85F5ABB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E48D-EB55-4F25-8BAC-8DB9DEF9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775-EE7D-4B51-914B-882B707E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C2E3-DD5E-495E-B228-EDE043BF9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51C8-0255-40F4-BBE9-8D31A13F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B8C0-F4DA-4B8B-A9AE-804C0A7D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F93B-62AB-4BAE-8867-0613F256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B08B-1C6B-4711-A1BA-EB2DF6E8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E8D4-AD81-4BEA-AC86-8C40F74129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4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задания №15 на ЕГЭ 2019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32360" y="5661000"/>
            <a:ext cx="216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лова Н.А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МЛ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6840720" cy="5940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1"/>
          <p:cNvSpPr/>
          <p:nvPr/>
        </p:nvSpPr>
        <p:spPr>
          <a:xfrm>
            <a:off x="7962120" y="60930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Овал 2"/>
          <p:cNvSpPr/>
          <p:nvPr/>
        </p:nvSpPr>
        <p:spPr>
          <a:xfrm>
            <a:off x="2340000" y="1268280"/>
            <a:ext cx="21600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7767720" cy="532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1"/>
          <p:cNvSpPr/>
          <p:nvPr/>
        </p:nvSpPr>
        <p:spPr>
          <a:xfrm>
            <a:off x="7888680" y="58770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5688000" cy="644832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7888680" y="630864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710000" y="620640"/>
            <a:ext cx="54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решение неравен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Объект 3"/>
              <p:cNvSpPr txBox="1"/>
              <p:nvPr/>
            </p:nvSpPr>
            <p:spPr>
              <a:xfrm>
                <a:off x="468360" y="1628640"/>
                <a:ext cx="85075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6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8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TextBox 4"/>
          <p:cNvSpPr/>
          <p:nvPr/>
        </p:nvSpPr>
        <p:spPr>
          <a:xfrm>
            <a:off x="4002120" y="29973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Объект 6"/>
              <p:cNvSpPr txBox="1"/>
              <p:nvPr/>
            </p:nvSpPr>
            <p:spPr>
              <a:xfrm>
                <a:off x="5292720" y="3068640"/>
                <a:ext cx="8636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2498040" y="765000"/>
            <a:ext cx="41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887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7817400" y="6165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6324480" cy="6105600"/>
          </a:xfrm>
          <a:prstGeom prst="rect">
            <a:avLst/>
          </a:prstGeom>
          <a:ln w="0">
            <a:noFill/>
          </a:ln>
        </p:spPr>
      </p:pic>
      <p:sp>
        <p:nvSpPr>
          <p:cNvPr id="53" name="Прямая соединительная линия 3"/>
          <p:cNvSpPr/>
          <p:nvPr/>
        </p:nvSpPr>
        <p:spPr>
          <a:xfrm>
            <a:off x="1979640" y="393372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6624720" cy="5567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7889760" y="60930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вал 2"/>
          <p:cNvSpPr/>
          <p:nvPr/>
        </p:nvSpPr>
        <p:spPr>
          <a:xfrm>
            <a:off x="5292720" y="907920"/>
            <a:ext cx="2087640" cy="3241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5789520" cy="5315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1"/>
          <p:cNvSpPr/>
          <p:nvPr/>
        </p:nvSpPr>
        <p:spPr>
          <a:xfrm>
            <a:off x="767304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2"/>
          <p:cNvSpPr/>
          <p:nvPr/>
        </p:nvSpPr>
        <p:spPr>
          <a:xfrm>
            <a:off x="1476360" y="907920"/>
            <a:ext cx="914400" cy="79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4895640" cy="642132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7888680" y="630864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5545080" cy="6568920"/>
          </a:xfrm>
          <a:prstGeom prst="rect">
            <a:avLst/>
          </a:prstGeom>
          <a:ln w="0">
            <a:noFill/>
          </a:ln>
        </p:spPr>
      </p:pic>
      <p:sp>
        <p:nvSpPr>
          <p:cNvPr id="63" name="TextBox 1"/>
          <p:cNvSpPr/>
          <p:nvPr/>
        </p:nvSpPr>
        <p:spPr>
          <a:xfrm>
            <a:off x="7745400" y="63086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3"/>
          <p:cNvSpPr/>
          <p:nvPr/>
        </p:nvSpPr>
        <p:spPr>
          <a:xfrm>
            <a:off x="1042920" y="4149720"/>
            <a:ext cx="1297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6267600" cy="645804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7962120" y="6165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5"/>
          <p:cNvSpPr/>
          <p:nvPr/>
        </p:nvSpPr>
        <p:spPr>
          <a:xfrm>
            <a:off x="2050920" y="1341360"/>
            <a:ext cx="2174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7"/>
          <p:cNvSpPr/>
          <p:nvPr/>
        </p:nvSpPr>
        <p:spPr>
          <a:xfrm>
            <a:off x="2195640" y="1557360"/>
            <a:ext cx="225360" cy="279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Овал 8"/>
          <p:cNvSpPr/>
          <p:nvPr/>
        </p:nvSpPr>
        <p:spPr>
          <a:xfrm>
            <a:off x="1763640" y="1700280"/>
            <a:ext cx="21600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1-30T15:05:03Z</dcterms:created>
  <dc:creator>User</dc:creator>
  <dc:description/>
  <dc:language>en-US</dc:language>
  <cp:lastModifiedBy>User</cp:lastModifiedBy>
  <dcterms:modified xsi:type="dcterms:W3CDTF">2021-04-25T11:27:09Z</dcterms:modified>
  <cp:revision>9</cp:revision>
  <dc:subject/>
  <dc:title>Презентация PowerPoint</dc:title>
</cp:coreProperties>
</file>